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5B9-2881-4458-9E9B-A85D7812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0F7-3E5E-464C-BDC6-C235E33A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biocision.com/6524/cryopreservation-intact-blood-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F1C-BDC9-48D6-BA68-FEB1EA71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dealbite.com/snuff-out-the-silent-killer-with-natures-natural-remedies-for-hypertens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C683-C99B-4C34-8FC8-43E2136B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skin-problems-and-treatments/understanding-varicose-veins-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1DB-1B25-4DC0-A088-0DCAC0A7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2896646/stock-photo-Lymphatic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6EF7-79FB-426E-981C-5C30239C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ivescience.com/26983-lymphatic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C18-158C-4E26-9B9F-7AA5D3C8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2332-754E-4010-8727-67B11C10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DF4-8831-43AD-B02B-FAFB1971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m.org/heart/lessons/heart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BABA-4A26-4B4E-BC23-C277C519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ltina.org/health-dictionary/atrioventricular-av-nod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7ED1-61D5-484B-9230-D2894D60C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ttiasansone.blogspot.ca/2013/11/le-basi-dellec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7339-DFEA-43B4-B776-8CECFC1E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kennesaw.edu/~jdirnber/Bio2108/Lecture/LecPhysio/PhysioCirculato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F26-FD5D-456E-B80F-9C21CD03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58EA-757E-472C-897C-15371CFE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onbarron.org/article/arteries-and-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88B-68AE-43DE-81DA-7CA7AA22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mergencymedicaled.com/Illustrations/Pulse%20Point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eel pulse when large arteries close to the skin expand as blood pumps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re radial &amp; carot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12B-9B29-4114-9EFC-E3303CFE6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tid pulse image: http://www.emergencycareforyou.org/ER101/Default.aspx?id=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l &amp; Brachial pulse image: http://www.hopkinsmedicine.org/healthlibrary/conditions/cardiovascular_diseases/vital_signs_body_temperature_pulse_rate_respiration_rate_blood_pressure_85,P0086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544-3642-46AA-B632-D62D5DA0B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3873-0E69-426B-AE41-9C6BA64E8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idport.com/reflib/science/HumanBody/Cardiovascular/Capillar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2715-5F3E-47DB-9BB8-38496A0D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bio-152-note-cards/deck/56733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apillary sphincters control blood flow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6ED-EAB7-4A9B-90C6-45C1A93C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jonbarron.org/article/arteries-and-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EDC-F851-4FBE-A097-EC338BD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B81-A777-4BB9-95E5-63CD415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82F-B8E0-4E3D-9254-C234CC6C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25B-058C-4841-8ED0-4518A2FD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8BA-5FFE-4EFF-85C9-1D77B01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83B-6DC6-4169-A630-C6252F6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3BA-D46A-43D9-BD12-3B597C6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93C-C9BD-4549-A5D3-129F873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21C-3575-451B-9B83-04D9AF61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AEA-7DF1-4044-8A73-E34E33C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F3E-5B5D-4B57-A115-A5CB4BB1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EFE-39AF-4718-AE92-BDD969F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4995-F2FA-485F-8FE6-5A0FA704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kids.britannica.com/lm/animations/olympha001d4/product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YZ4daFwMa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Sys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571464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 &amp;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hypertension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understanding_varicose_veins_basics"/>
          <p:cNvPicPr/>
          <p:nvPr/>
        </p:nvPicPr>
        <p:blipFill>
          <a:blip r:embed="rId1"/>
          <a:stretch/>
        </p:blipFill>
        <p:spPr>
          <a:xfrm>
            <a:off x="274320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shutterstock_108567068"/>
          <p:cNvPicPr/>
          <p:nvPr/>
        </p:nvPicPr>
        <p:blipFill>
          <a:blip r:embed="rId1"/>
          <a:stretch/>
        </p:blipFill>
        <p:spPr>
          <a:xfrm>
            <a:off x="2541600" y="609480"/>
            <a:ext cx="405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phatic system helps ensure that blood volume is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s excess tissue fluid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m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turns it to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e System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bacteria &amp; other harmful components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mph 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enlargements where leukocytes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iltering station &amp; reservoir of erythrocytes &amp; leuk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ids.britannica.com/lm/animations/olympha001d4/produc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4" descr="heartDiagram.gif"/>
          <p:cNvPicPr/>
          <p:nvPr/>
        </p:nvPicPr>
        <p:blipFill>
          <a:blip r:embed="rId1"/>
          <a:srcRect l="-41030" t="0" r="-41030" b="0"/>
          <a:stretch/>
        </p:blipFill>
        <p:spPr>
          <a:xfrm>
            <a:off x="468360" y="1052640"/>
            <a:ext cx="8351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entricles contracted (blood is pumped from the ventric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entricles relaxed (blood fills ventricl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bea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bb-dub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d by the valves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tes heartbeat;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cemak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ies signal to ventr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atrioventricular__av__node"/>
          <p:cNvPicPr/>
          <p:nvPr/>
        </p:nvPicPr>
        <p:blipFill>
          <a:blip r:embed="rId1"/>
          <a:stretch/>
        </p:blipFill>
        <p:spPr>
          <a:xfrm>
            <a:off x="4267080" y="235260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CG trace &amp; basics"/>
          <p:cNvPicPr/>
          <p:nvPr/>
        </p:nvPicPr>
        <p:blipFill>
          <a:blip r:embed="rId1"/>
          <a:stretch/>
        </p:blipFill>
        <p:spPr>
          <a:xfrm>
            <a:off x="1852560" y="1981080"/>
            <a:ext cx="54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42-08-BloodVesselStruct-AL"/>
          <p:cNvPicPr/>
          <p:nvPr/>
        </p:nvPicPr>
        <p:blipFill>
          <a:blip r:embed="rId1"/>
          <a:stretch/>
        </p:blipFill>
        <p:spPr>
          <a:xfrm>
            <a:off x="1246320" y="1676520"/>
            <a:ext cx="6726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nimation shows the cardiac cycle &amp; how it corresponds to the waves on the EC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RYZ4daFwMa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heart toward body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ity of the walls ensures constant flow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rtery"/>
          <p:cNvPicPr/>
          <p:nvPr/>
        </p:nvPicPr>
        <p:blipFill>
          <a:blip r:embed="rId1"/>
          <a:stretch/>
        </p:blipFill>
        <p:spPr>
          <a:xfrm>
            <a:off x="4343400" y="2109960"/>
            <a:ext cx="449568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PULSEPT2"/>
          <p:cNvPicPr/>
          <p:nvPr/>
        </p:nvPicPr>
        <p:blipFill>
          <a:blip r:embed="rId1"/>
          <a:stretch/>
        </p:blipFill>
        <p:spPr>
          <a:xfrm>
            <a:off x="2190600" y="609480"/>
            <a:ext cx="476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your pul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36" descr="Man-taking-Pulse"/>
          <p:cNvPicPr/>
          <p:nvPr/>
        </p:nvPicPr>
        <p:blipFill>
          <a:blip r:embed="rId1"/>
          <a:stretch/>
        </p:blipFill>
        <p:spPr>
          <a:xfrm>
            <a:off x="457200" y="19810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7" descr="GetImage"/>
          <p:cNvPicPr/>
          <p:nvPr/>
        </p:nvPicPr>
        <p:blipFill>
          <a:blip r:embed="rId2"/>
          <a:stretch/>
        </p:blipFill>
        <p:spPr>
          <a:xfrm>
            <a:off x="4749840" y="1676520"/>
            <a:ext cx="3835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i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oth muscles in arterioles can ca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o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sod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ts blood flow toward areas of need, e.g., during exercise, cold tempera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blood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body cell is further than 2 cells away from a capil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gas, nutrient, wast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pillary"/>
          <p:cNvPicPr/>
          <p:nvPr/>
        </p:nvPicPr>
        <p:blipFill>
          <a:blip r:embed="rId1"/>
          <a:stretch/>
        </p:blipFill>
        <p:spPr>
          <a:xfrm>
            <a:off x="4343400" y="2754360"/>
            <a:ext cx="4495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creen_shot_2012-11-12_at_83922_pm1352770773804"/>
          <p:cNvPicPr/>
          <p:nvPr/>
        </p:nvPicPr>
        <p:blipFill>
          <a:blip r:embed="rId1"/>
          <a:stretch/>
        </p:blipFill>
        <p:spPr>
          <a:xfrm>
            <a:off x="2503440" y="609480"/>
            <a:ext cx="413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les &amp; V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bloo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layer not as thick (not as ela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ves &amp; skeletal muscles ensure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vein"/>
          <p:cNvPicPr/>
          <p:nvPr/>
        </p:nvPicPr>
        <p:blipFill>
          <a:blip r:embed="rId1"/>
          <a:stretch/>
        </p:blipFill>
        <p:spPr>
          <a:xfrm>
            <a:off x="4191120" y="2320920"/>
            <a:ext cx="4572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9:42:19Z</dcterms:created>
  <dc:creator>rubina khan</dc:creator>
  <dc:description/>
  <dc:language>en-US</dc:language>
  <cp:lastModifiedBy>rubina khan</cp:lastModifiedBy>
  <dcterms:modified xsi:type="dcterms:W3CDTF">2017-05-23T10:31:30Z</dcterms:modified>
  <cp:revision>100</cp:revision>
  <dc:subject/>
  <dc:title>Circulatory System 2</dc:title>
</cp:coreProperties>
</file>